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F1B-997D-493E-8D31-84096EAD5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C008-E9CB-410A-8274-47B4AB25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68D0-26B5-41A4-8A8B-D81866EE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A41-9ADE-4D98-AFBE-2ABBBDF4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7CF-D76A-4D33-A45B-C5F2B5AD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A2D-0E31-40E5-AD80-E1FF9EC3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FAB4-8763-4E37-A75D-8A9DDF57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39D-5424-4958-A05F-8EC6A0D4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E296-638A-4B74-9840-EEEC6DE2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E18-E005-4C0A-A2C8-D40C5453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D96-0174-4C6F-B710-C95478A19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E0CFC3A-C295-47F6-BA79-6F896F236C8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43413A6-734A-41E3-A94C-642F8C62B38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55A4F33-755D-44A3-A2DA-1977FD05F7B1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76560"/>
            <a:ext cx="87660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-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ave Powerpoint Fil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DEBC358-6CFC-4BF4-A9E2-A39F862F7A0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885960" y="1596960"/>
            <a:ext cx="8082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veloping Visual Aid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25040" y="1436760"/>
            <a:ext cx="7961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 Ai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omething you how the audience to help them understand your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Slides Using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PowerPoint is a software program designed for electronic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:  Google Presentation software can als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ware:  Open Office Present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6F432EB-AE6B-4B2F-8D9A-A5E9E1C0EE9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icrosoft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Powerpoint 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B04F9A5-BB31-470A-A41E-6427BC3BCE4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90720" y="1819440"/>
            <a:ext cx="7696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6400" y="1495080"/>
            <a:ext cx="81504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he filename an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abs that organize program commands b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 But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re displayed on each ribbon. They execute a command or display a drop-down menu of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he commands are organized on the rib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CE64676-99A6-4940-A8B4-10AC028C17C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s Ta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isplays small images of the slides that 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 ta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ys the number of each slide and the text that is included on each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holder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 with dotted borders that are part of most slide layou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old titles, body text, or objects (charts, tables, pic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91AE801-0404-4FC0-B6FB-A9C1504A22B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37920" y="1464840"/>
            <a:ext cx="804852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you to key notes about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butt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you to view slides several different ways depending on what you are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information such as slide number and them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s the powerpoi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A5560B8-7B82-42E4-ABA5-0FA89CCE4DA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but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provides quick access to program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ove to slides by clicking and dragging the bar or clicking the arrow 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ous Slide/Next Slide butt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splay previous or next slide in presentatio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CBFFAC3-F1CB-48FE-A7FC-710782C5863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Powerpoint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 View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orte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6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E5FE692-0B95-4CBA-A4D2-3934C0C4C18E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685960" y="1614600"/>
            <a:ext cx="4164120" cy="116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922320" y="3430440"/>
            <a:ext cx="3308400" cy="201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5345280" y="4106880"/>
            <a:ext cx="3420720" cy="2009880"/>
          </a:xfrm>
          <a:prstGeom prst="rect">
            <a:avLst/>
          </a:prstGeom>
          <a:ln w="0">
            <a:noFill/>
          </a:ln>
          <a:effectLst>
            <a:outerShdw dist="152225" dir="2700000" blurRad="0" rotWithShape="0">
              <a:srgbClr val="8f80b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owerPoint View Butt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d for creating and editing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ort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thumbnails of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view several slides at a time and to sort or rearrange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ho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sed to play the presentation. Can also press F5 key on key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A447778-BF93-4ACA-A667-6C1532775DC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6:54:20Z</dcterms:modified>
  <cp:revision>25</cp:revision>
  <dc:subject/>
  <dc:title>Slide 1</dc:title>
</cp:coreProperties>
</file>